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E81-8904-43D4-965F-33287658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4AE-7436-4410-99F1-17CC5AC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5ED-2611-47B8-98CC-8EC75EC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404-9C48-409A-A6C7-E9B56AB0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055F-B068-4C31-9E88-9ABE2880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8BA-6B47-432B-935C-7130096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AF4-D582-4CD8-8139-8AFEA7D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34FA-BC5F-4354-8807-E2F08DB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E519-76A5-4937-824B-C90A996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D657-CDE6-411A-A177-8BE4990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7A5-2BD6-4E8D-B01E-AB31F9B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180-EFC7-4926-A774-A581A709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540-45D2-47D5-AE16-547C313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2917-5763-4896-A3E1-3FF3A28F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69D5-3109-42F5-8E8D-C364431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41C8-2251-46B6-BE5D-BF3DF08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C554-C367-4D14-9237-BB6D0872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3FD-0691-4A36-AEA5-10A4F2AF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AAA-86A6-49B7-811F-DFA3B0E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3A8-8C5B-419C-AF8B-14E639A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01F-AB84-4068-9F52-01BD0A3C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2A7-B597-427B-81AC-8DB3E79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A43-E2EB-4B6D-92EE-6BF8A45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575-61C6-4451-995E-72A75A4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837-A822-4F0B-8F83-F80340C64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2FB-3794-4924-928D-4E8E86E48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Elements of a Short Story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Point of View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y be 1st person or 3rd person.  It indicates whose opinion is dominant in the telling of the story.  It could be the author or one of the charac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Length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definite length, but the short story is short, swift and compressed.  Every word and sentence is meaningful.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 the story, the author introduces the setting (where and when the story takes place), and the main charac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haracters are usually revealed through their dialogue and descriptions by the author.  Some characters are round (we know much about them) and some are flat (we only know a small part of their charact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Plo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at the story is about.  It consists of a number of crises leading up to a clima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onflict</a:t>
            </a: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lways at least one conflict in a short story.  The conflicts can involve a) person against person, b) person against nature, c) person against society, d) person against his own conscience, or e) person against the supernat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Climax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highest point in the story or plot in which the fortunes of the main characters take a turn for the better or the wo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Resolution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final part of the story after the climax.  It usually serves to clear up any loose e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Atmospher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mood of the story.  Examples are suspense, joy, oppressive, sad, and inspiring.  Sometimes the mood shifts, but in a short story, it is usually the same throughou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cc"/>
                </a:solidFill>
                <a:latin typeface="Times New Roman"/>
              </a:rPr>
              <a:t>Them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“main idea” behind the story, or the moral.  It is usually the author’s purpose for writing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45:53Z</dcterms:created>
  <dc:creator>menb</dc:creator>
  <dc:description/>
  <cp:keywords/>
  <dc:language>en-US</dc:language>
  <cp:lastModifiedBy>menb</cp:lastModifiedBy>
  <dcterms:modified xsi:type="dcterms:W3CDTF">2008-03-29T21:06:25Z</dcterms:modified>
  <cp:revision>5</cp:revision>
  <dc:subject/>
  <dc:title>Elements of a Short 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31036</vt:lpwstr>
  </property>
</Properties>
</file>